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143F9E-0061-4AF6-85F3-03B8E8DD61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3FB8C1-D458-48D4-8205-501E682CC1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A00D2F-EB4F-46F8-B52E-0BCC4BA145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ADDD17-5700-4DBC-BA38-A0FAD43691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CFA62EB-7E22-4CD3-B820-BCDAA7FE884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B7F55A-F9F2-48E9-A734-ED64862BF6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E9CD2A-460D-4B2F-82DA-97B62B0DE6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64B4E6-1215-4448-BF48-30D9522420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00D160-1AB8-4928-9DE6-A52A12E830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47F6F3-1DBD-42D1-A3D2-0D2441598B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64F9AD-B5C4-435D-94BF-D4A0D977BB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0990D9-B757-482D-A318-D0D4F58DBD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5E8922-5EBB-4191-AF62-E0EA7EAEBA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DA1F4A-2881-4BDC-A797-2DFBC30A15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816FD1-AE0E-4C1E-8896-E03C827907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B1FF1E5-EF7D-454E-A1FE-56AA4560E27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F0283D3-FF6C-4664-94CB-3B6788BBC17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FFB220-D32F-4220-91F7-63DAF86E53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340715-ED56-47EB-88E0-43B716AC3B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2FB004-C6F3-43B0-8C47-D57CCDB3C2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1016BD-1CD6-4EBE-97D5-B182BDF97D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66AE5B-A216-4A55-BAC7-00C372BB1A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F3B1E1-1871-4610-8E73-C9D2369B67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A73CD2-D0E4-4289-B5D8-9FFCC64430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FE6028-BC27-4E11-83E3-C90796DD1DF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1858A4-E5FB-475C-BA83-1707A50947C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B6CC01C-E8C7-43A6-88F5-0C5F511D216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ABD409F-22B7-4BBE-BB85-8CF5716DFC2E}"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E9E0B8-5D0B-4BB3-98DB-14D3EB2EA401}"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FF3246-F546-4C6D-B154-F4D2F5A8F81E}"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B13BBD-C13F-4CF6-9C64-F10F94E2E7E4}"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9B6555-6134-408F-96E0-6522FE6454B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1955DC-2A16-46CD-AC50-938D6E20D45B}"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6BD4E8-874A-4B8F-A85C-8D0F2C503B94}"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E1F207-12FD-4409-BF27-B1C86B5904DD}"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3F4565-483A-4117-909D-E13A8E2862F8}"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7F2C15-414B-457A-9C9D-11C638D6317F}"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24E733-170F-4AF1-83B0-A7887B271DB4}"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DF1593-E3EA-44EA-89ED-155509AF6796}"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8667A3-C7EA-4200-ACAC-6D917995432A}"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A078AB-746D-4C6D-B386-97850520D083}"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C8F630-7B57-483B-B2BA-4E6C45E09AC7}"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F427F7-1EB7-4ED2-91BD-E24C9218F356}"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8C9DB5-A7CF-41F9-8EC6-B0DA80E81BD5}"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2ACB2D-1590-4AAC-A91D-2CF2EE43721D}"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6F7AC0-B41F-4267-82F0-B4BFD394AA60}"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CE70AB-D997-4E25-B61A-B38D3E147815}"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BDD8CC-0879-4468-A905-CB18ACDAE7BA}"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AD0E7D-7543-484E-B066-1F2913580AC9}"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D43F3C-F4D1-4E26-86F7-CA639DFD5B91}"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3FB220-F5F8-4DC8-9C78-5616D6CE448B}"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6A42D7-B175-4C8C-85E9-1587988F07C1}"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4FF61E-19BE-4825-BD74-5D7D7122244D}"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70B87EC-70D8-42A3-A616-4FC24A80E6A9}"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3EC940-4508-429F-BE96-914A2197A444}"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3D90E2-8C55-45F8-8190-34CCE9CB7871}"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51665D-4EBD-498A-8249-D893D6CD273A}"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4C4331-9687-4E0A-B366-49C64072A977}"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AB5C8E-EF46-4231-8C2F-81DDC89F0BEC}"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8C37CE-7940-4116-9005-D3A959760D21}"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D62E5B-2397-4151-AEAF-7BFA23C28A4E}"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433262-1497-4F30-8761-A2023771C6D1}"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353AB4-A148-4597-8F64-92A80A20CB93}"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EEDB5A-E73F-465E-831A-1BFC01089039}"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73872F-778B-4A31-95BB-947B9908310F}"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8BF6AF-D202-4BE4-9E5C-A632F15135AA}"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C2958B-8CC7-4B08-944B-C2749DD3C765}"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9F394A-55F9-4DF6-BF14-11A3A3880EE0}"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3EF0C9-2940-4F31-AFE9-B78A07FC5D8B}"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2C20C9-76A0-4630-B7AF-42E7BD1C1A66}"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4691CA-FEAF-444C-AFC5-B4F13B47312C}"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BF1F71-A703-43D7-BFB4-9229749874DE}"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7A950B-27DA-49D3-BAE1-394A1D6AE56A}"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7076C3-0593-470D-88AD-93C6E7C53ABC}"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3C322E6-0B5D-42E3-A183-2A2EECCF8F8D}"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17462B-3F68-4F79-8DBF-5F8E9E9DA41D}"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0864A8-98D6-463C-AB07-20332B07EDA4}"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41A3612-8F80-4976-B0F0-CA04D939C43F}"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95BB73-C1A7-45BB-8B52-91B4FF7CB99E}"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CE04ED-6E5E-4D1B-8B16-F257FA41E07D}"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88311C-CD77-4100-A10A-99A4B7C475E2}"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CAD474-47C6-4B44-8420-64042281E46F}"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3819BE-650A-4DC1-B442-94118B1B737F}"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E0058E-CA5B-4BEF-BCCD-BF999C96B1A2}"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F5C5B6-E5F1-4D7D-8523-26A5E5AC7321}"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BAEEF0D-5BA2-4959-97D1-132A69BBDDB4}"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E937AC-6691-4E54-B82B-EAC05F293C3A}"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8ED5C4-73FA-45AA-923D-F4A41BB25A06}"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CE358A-6685-4744-BCCA-06A32BFE55C9}"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415919-A5CC-43D1-82C2-9A99A9BF01AB}"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63270B-8186-4582-98FE-313F95E9D02E}"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A460BA2-E368-4F8B-8F17-822687A10F33}"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28FE9E-F38C-4171-9C75-1F69DE1D9785}"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FEA692-286D-4E1B-9FDF-B821334904D9}"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C195F8-C5FE-4C9B-875D-6AE4C4C5BBF8}"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91A10B-BF4F-42F5-97E4-C2BC866A0D74}"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D6349CF-4EF9-4C24-A450-8FE5EEFFA4E3}"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69C973-90E2-41DE-82D9-0B05E7D46AF5}"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0C0CB5-4FBE-4591-87D5-B1A1BD6F72C9}"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A3EBAD-8383-4ADB-9232-BD48262B4797}"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0B2FD2-136F-4A8C-80D8-74882D6D2383}"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CE68B2-07BE-458A-8EB2-AA22C6072C31}"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8DFF6D-98B4-4446-8C26-98EA45ED81EE}"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9D82A96-B3AF-4391-AEEA-39171A6528AC}"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DB1D9E-2036-4DAD-832E-DA927065F879}"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9E5948-60A1-4689-BD03-8E631603653D}"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C7EC37-D67A-4A77-8D7E-8F726460C654}"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79662FB-9E3B-4C34-AAE9-7DEFF5911272}"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B405BC-CF9D-4758-B806-EEC3F7BF2FAE}"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183B353-705C-4510-9274-BD215220E25F}"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2356D2-02D1-4834-B65E-507920D84198}"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4D668F-71E9-4F61-9D19-114E2A4D5A17}"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7B6403-06DD-4832-8592-A3A75F9DAA96}"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B76F19-D8C8-487A-AAB8-070DBE5B9E41}"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C14083-3447-4984-A2E5-60D4CB1EAA8B}"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82E7D4-3E55-498D-9816-B685605E1FAA}"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DC4357-6E58-4A13-B1B0-8BC4819D3FB7}"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499728-FBFD-48A1-80AC-51FD144B9BB8}"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B1DC93-6F60-4785-A86F-A63E570445B8}"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9B22F0-1422-4750-A972-682A1CEB2C89}"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8BFD69-F586-4450-B07E-82D1F045EEF9}"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A3940D-E653-4631-B5FE-1EB68C0E8311}"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C2D2F8-6EA6-43FD-9D46-483E50D61D33}"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905993-EF3E-4382-8D04-D019206364EF}"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F2CFF9-26FD-4BEC-B892-2F09CCF6D5A0}"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87541BB-2628-4441-A7D6-51F3E23C47E3}"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8D16A7-D97B-4D59-B1B5-454EC3C5B978}"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078F3B-9BF4-4D61-9D9E-9560868E8BFE}"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5FACA4-4D83-4B8A-B896-8025391B8F53}"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E90439-44F5-4896-8277-BE4B0DB52176}"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846FF6-5379-48D1-9697-6A5A1B94D24B}"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FF195B-2BB6-436A-B7C2-2B811655D420}"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670699-C78C-4779-B050-2B44C7058A0F}"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21EB09-5C28-44B1-8C02-5CD047B13470}"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11DEB5-A9A2-4B11-996A-F048E2F529A9}"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6B6107-3A95-4819-966C-45E6F8A8FEA2}"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D2FADF-C0F5-4B5E-9431-CFC1EA13963C}"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7B7509-E402-41F0-8ED9-2EC6342CF3F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ECC875-716C-497B-AD9A-4CDC76ABFB7A}"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C343DA-4CF6-40CC-9E88-415FA83C50AE}"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CECFDC-1F96-4ED9-9BB5-249442DFF177}"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5E883B-6C25-4DD5-8F18-A6EAB412DDB4}"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F15E6F-F2F8-466C-886E-9DA5D987FBB5}"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70EFC9-7577-4A49-BEEF-CD878AAA73AB}"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C4A7AB-5065-42D5-8475-44616A940F84}"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B86252-D570-4F30-BE98-20BAAD1F101F}"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010BA1-E1B3-4E71-AF4A-6ED6DC57DF1A}"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26E809-5735-4503-BB44-900C527B618D}"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977295-45B1-4E09-B449-63F349BB6830}"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397A2F-6E2A-43DD-9FC3-38C4CC269A79}"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0BAA1A-3E90-4364-80E6-8B058A1AC320}"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B7E3EB-DAE7-47A1-9B96-1C2704EDCFE8}"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57EA13-5C7D-4C6D-BD39-A9A04FD22A21}"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A3CBDEC-9F8D-4FFC-9709-D1794949CFE7}"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4F1DB8-7D52-4619-8D73-4CA8B062E52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51811A-E281-402F-BE9B-E63CA821F38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9380E6-DDE9-43E5-9EC7-39165583160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D306C2-68AB-4A8F-A7EA-7EA8C35FC56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8435A3-E83A-40C5-AC38-71093C4F0F7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890753-1E4A-45B3-A388-04E01AAAEBE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B604EC1-1D90-4945-8202-FF445570217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472CD5-F629-449B-B108-01249C566E0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734E26-781E-47CF-8179-AA93CEE7279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83B116-85AA-4E62-836F-4AE4295E0B9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A68E06-8193-4AF4-95C4-B837E2FD13F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60CA91-F6A2-4A24-9C13-418660C0D3B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FB811C-B00E-4407-8696-5D286B14AEA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ACA4B2-D498-455C-BB0F-5CF9EE075AD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9A188C-8F58-440E-99FE-3ADFCA4057D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7EFEBD-11C7-48B8-8272-A26284781D9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2182E0-6CAD-4E7E-A43F-F4C78B169A8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73435F-D835-4561-BE8D-35DA368BB4D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2A4490-F02D-411F-A186-648FC8C7C19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07FE0A-780A-4452-9079-67682B996EB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F8A08A-9079-41D7-96F5-963F839478E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3B5C0B-D28F-4C7C-B08C-C4553E50C51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39B1EC-5630-46CF-AC76-FB1DF2ED643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03A08E-00E2-4162-BBE2-3BFD5DF29EA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2145CF-756A-42AE-B1C1-4E0CE747BB8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3FEDDF-5BAB-4E6E-980F-C123AA100E2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3F5A12-4C6E-4350-8FCB-B5E088FDB44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6EBA83-EB13-4505-A374-0626F327CCD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B6D8D4-DAFF-4E28-9660-041E716A552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F1FF2D-4627-40A4-B1A1-7D502CEC299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5403F5-EFC5-4615-AA09-9414CA0EA2D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233535-C7D2-4C5B-AF78-636FB6BD7F3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72281D-5351-4732-BE40-AF5F46677AF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F54FF4-BB3B-4F21-A6E3-413127CB345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444616-0BF7-4442-9910-369BCDDFE0C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DFE786-5842-4F8E-95F6-C905FD80B30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81D299-4FB8-4690-8744-58B6D15ADDE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54BD04-3120-44DF-B28C-077AC110B5EC}"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96A6F4-725F-4506-975B-96D136F3C63A}"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F4619A-0349-4DBE-B396-C178B9DCC91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4B85CB-7EFC-4139-8A3A-3CF3C9F7BD2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000713-96DC-47FA-86FC-C9659A343FA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BD4391-EA96-4B14-8A31-AB4063C5703F}"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2C5EC2-7CD5-4AE8-864D-C1E5F32A0D7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D00A6F-89AF-4808-A16B-5EA2D9A52FC8}"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6F313D-1E42-4F0C-9FA0-436DB0F567AD}"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0C3002-B372-40CE-83C7-4C7A56F70A6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C7F2F25-90FA-4EC0-BDB0-3E34CCEBF90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7670BB-522B-4EEC-8ECF-B53E227AAAFB}"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8F48F6-50FD-4E5B-B0E9-6F5D75452D2C}"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0CB7F0-0ABB-4A39-A582-53038338DF6E}"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660611-B407-4CFC-B2F9-476EEB3B671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9F246F-FFE0-4956-AF16-85BC6530D9EA}"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E0F098-9878-45C3-BCAD-7660A4E41CD6}"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3F80B2-61DD-46D7-BDE4-4EB3378AE8A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7CC52E-1AE8-4A80-8F95-413D92CE6FD8}"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AC25E0C-6DC5-44A5-BCBA-019F4EF88A4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81A88D-069E-4474-A1B5-38B2203AEC7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348900-E515-43EE-9093-C04B451503B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743AFD-EFC5-4AD0-BBA5-1BF2A4AE5FA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3085F6-BD34-4A47-9B21-33F4CA626E6D}"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8F3AA7-96CA-40BC-8B63-8F13C10BFC0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4A37A7-8DAD-43DD-94AC-38A3EFDC740B}"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9B4136-0482-411E-AD75-75C5081275A8}"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960FC0-5D95-4957-883E-2A5666C151F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E8C9A6-A575-48B7-ABDA-F0A56D221760}"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5DD133-0D87-4685-BB44-FEF932BD461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CD74EB-3CA2-4EAF-AE88-A1B010CB8944}"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4095E4-9128-40B9-8A22-8BC0FC137A02}"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574636-6A12-41D9-9261-AF9337135D1C}"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6E3C02-1796-4A27-8438-B9FCBAE2AD7D}"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9CFC5C1-5FF4-4CDE-BFD9-E0465E80172C}"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F2933C-A13A-4E4B-80E4-D0DC40E9EEC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DC5087-4EFD-456E-B31D-E86E816616F1}"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76DB56-B4F8-4838-82AA-AF03F6F0C3AC}"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0D2826-C39E-4077-9D94-0480FE501757}"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7D6E8E-53DC-413C-81D6-0DF744EEDA7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C16AB2-E43B-47F2-81AB-80542DFC2EA8}"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EDADFA-04C2-4CBB-AC4F-B6475DEF25FB}"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60A424-C8F8-4C38-9CE6-14AD0941BDE2}"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E55CB1-7117-4C7F-A56A-2FA9C7DD9B18}"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FAFE28-C2BF-4BA6-AE61-33B8DB1CB30E}"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C3B4BE-44D3-4D0C-B141-6CFA31F325AF}"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58E438-EEA6-4062-9C6F-BFB034300E0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2819B6-6B27-4B74-9BA8-912EDA76576F}"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