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E9F8DB-7BC7-41C9-8FBD-952F74517C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A075EA-C3B0-46DE-ABBB-9D439DCE7E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B5FF7B-707D-4F81-BC7E-631945F3AC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42E546-9AEF-40AD-9439-CC1DDA34E0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61651A0-B5AF-43FA-80CD-93760A60CF7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1263F4-094B-46F6-A5F2-45804114EB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1525D7-0A84-4008-A4E0-000E7C6EC6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54B7A6-9E85-4E7D-A7A7-D379CEEC5F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8A461A-A5F4-4E88-BB34-B52964EDA1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8219C6-74B2-427F-9B8D-4C2B77AA3C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E63819-0FF9-4720-ABB5-D5187724DB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F3A463-57AE-4883-A1E9-193846C806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E6D3F9-C783-4CD7-95C9-807D972280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5D2346-B4C8-4E16-9B2D-6C5C63ADE3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042401-47DB-418E-96CD-0D854B336F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2C84FB0-AE03-4546-B6C1-4C3E37AD08E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D3C4DD1-0777-4C35-8420-00CE4060D23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A5D570-C5B6-478C-9EE7-D0EA3C7DED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015208-C606-435E-B520-15984DADA9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657850-E7FD-4A20-85BA-9FF7A376C7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870839-1A4D-47F4-BE00-A3FCB344CB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DF6E09-A876-4577-AAA4-ADF99AB984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0E0BD3-CA4F-4C6B-8465-492D6D83E9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4E2298-3370-46AA-9F7B-86F3555CA4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40138D-A120-458F-9EB2-86A10D8FAEC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63301C-3D86-4ACD-A99B-99BFFE54CD3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6B2CA4E-6295-4CFD-8C3F-AF748662FD0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C02001E-7B5D-4839-9781-108B6C816A00}"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6FD077-0C30-42A1-86E6-D3A2E7E9C40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118FCA-8E5D-4414-BF2B-F264B8CB683D}"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BD296F-4D85-48AD-B340-B6D2CDC9D5A5}"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130E8D-03B5-4158-9E3F-9014E6F073DA}"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46DF17-0F14-4715-9E46-EA7572299D9F}"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A4EAC3-1900-46C3-B900-E60D13F34A2C}"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5E4F10-8DBF-47CA-BDDF-FCF812BDD4B1}"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A28FE6-4EF9-4B9A-A257-D8B0C0F76E51}"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FFF1CB-E622-4486-88E3-ECC86CEE343A}"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9A16F6-4689-46E6-9DD2-3D34FF65BF86}"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E0BB10-42C9-4122-9CF0-DA67BEA7E1D3}"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9AE7FE-07C5-429B-A3A1-BCE784727EAE}"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8B270F-985F-449A-A49F-B36A0485AF66}"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CCB4F8-692E-4699-B624-1E80477B7BE8}"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CD02F3-B462-49C2-A21F-1237BAF6F783}"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5ACC35-8CD1-4589-B7C0-C2ADC06A8A35}"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4EF8BE-F01B-4A68-A575-1FA953F94C76}"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0165A1-0877-418C-9000-79A99DD9FD9C}"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24EB7B-8B57-416A-86E2-ECFEC3F46F97}"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26E8E1-6F3A-42A6-8CB0-0AC6697783FF}"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9B1089-AAFF-4442-A2CD-607B7420FCD7}"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28D286-2F95-4491-A194-C0A71EE36AD7}"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750626-2D73-4F0E-9BC2-46B98206E413}"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772DB3-F7C9-4F4D-A9AB-BFEA8FE5C051}"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F70FB7-44FB-4771-9C75-C9837C5DEA6C}"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1EA8C40-16A7-40F6-9BDD-2952A368BD26}"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BA499F-118C-4BBA-A334-CD68E2A76D15}"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5EC642-4A15-445C-AE7C-77ABFBA8FA81}"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7F753B-F269-4B61-93EE-C93DA0F1F13F}"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C6D2C2-07E6-4652-A0C7-196463931D23}"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7FC5B0-F26E-4A9F-AD04-8C2B3D4AB278}"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93574F-9274-4A19-9B4E-020B836D7A79}"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79D71C-9CF8-4A08-9835-C52B96590301}"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AC68FC-101B-4D5D-936E-7D79EB0D2D99}"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D8D393-FABA-4C5F-9BC6-AF9639A60F2F}"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D99CD4-580A-4791-B84E-AF61A1BBA8E7}"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D291FD-CB5F-44F8-8A40-14905125CD06}"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5F56B7-EAF4-41E7-BFE7-8B4B04981493}"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C88D03-85D9-4C2B-9553-D30EA340EA91}"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0FDB06-9DF2-4AF3-8F3C-BBFF650F6C3D}"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C8A1BB-34B7-4D59-B03F-FCE98A290D69}"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B8DDA7-5D0B-4811-BDE6-58FCFC1A6969}"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91CA6E-EA5D-4AAD-926A-679B5C242969}"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ADBE46-493C-476E-964B-B93164F79BD4}"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5719FA-BC09-4D5D-80EF-D3F4721B26DC}"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411C36-DB62-4416-995B-94B827086041}"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1A4E953-D459-4248-806B-B740D8258E9C}"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91881D-0315-46BD-BE99-E7A061B6AB43}"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039A42-1084-4802-8F83-D58222CA09EE}"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5B18AE1-3DA3-4B09-BD32-F8B8CA9F08FF}"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B305B2-CCBE-4882-86AD-8C3916ED2F05}"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A4DD52-5D2A-42D6-A107-C34245EF7583}"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04B383-E161-4BC1-926D-7E6A33A80639}"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88B5E7-0A81-44E4-9EDD-AE9D4EEE116E}"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BF7AD7-95CA-47C5-B319-31C711CA2B93}"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80BD37-B8C2-47F7-9E9D-F1E7652EB7F8}"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5E8114-1AF3-430D-BF76-025469AB205C}"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D9E6E00-D6AF-4AD9-A28E-86A92AB9F02D}"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3C7314-06A8-4DE5-A4E4-2778E4C72230}"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354F7E-3CE3-4587-AB01-9842817CB6C3}"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E3421D-3218-475B-B0FD-C3408BEDB073}"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0BD2F1-7FEF-4FE6-87F5-3FE46B7C0889}"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08DE0C-BFCB-4C21-902F-C36A2BFFEFAD}"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A0D3D03-43A1-4061-8368-ED6CE27C9B82}"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DB9B68-65F7-41BC-9752-D5611CE22A78}"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7DFCF2-CC5D-44CA-8E3E-9D22A171F67A}"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E9C1F0-78F4-47BA-8ED9-07CB82C9926F}"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C48995-1C41-489E-8425-06F9CC19E1FF}"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78A85AF-3049-4A0E-B802-BA572C42CE6A}"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6F8316-32A4-4ADA-B436-3E886A721FF2}"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91DCC2-E985-40D0-BBB3-01E0E147F9DB}"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7A1AAF-3BFB-4871-916C-90D8E2173E56}"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60D3F4-6C60-4C81-BACD-84F41381F17B}"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935AB1-B1F2-4BDD-A306-BFCB8CEE400C}"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EE5FB8-CA31-4F3C-A40A-E79FADCD3EF8}"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A6CDDE3-EBF9-4431-AF48-7E0AD63757AB}"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87B3CD-EF99-4462-99D0-7DA7B11E2577}"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8DA8BE-D614-4991-B9F5-6C72931655D7}"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E24637-108A-4719-8BC6-59CEEF08656A}"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0FF59B4-F418-4B7A-B406-492199DCE420}"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CDE855-C7AF-4085-8D9D-E1CE69B2533D}"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942149D-1B3F-48A4-A408-AABC88C4297A}"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AC0F4B-4A04-41A3-AF12-4C105E1AA1D9}"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4EE5DE-E1BD-4DCF-AD45-1AE66A557570}"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12CAF6-EB28-4EB8-B837-51F03097E440}"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87F796-3765-4F90-831A-062508530EA2}"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ABE336-AC75-4A77-A822-76A4FE00878D}"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CB247E-3198-494C-B81F-14C8E991FF80}"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7436F6-D8D3-4852-88B6-3E8DA02631B0}"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81346F-CC70-4CF6-B20F-3CEF940FE9CA}"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D388D2-3EC7-48DA-9375-1E29AA13D7B9}"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AF1797-C72B-402C-8178-F4C1E88A68CB}"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103B11-39F4-49F2-9406-3C23AFF58B5F}"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0059B7-8B9E-4272-B79C-E1787727BC2C}"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EFE237-3A24-4C1D-98D7-A7973C4DE517}"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75EC0A-A0EB-4AC7-8E7D-B88839E0DE8A}"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4B4B84-9C4C-4447-BAB8-721ADD9EE439}"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5DEDA49-DD5D-404E-A38A-060A2FAC805B}"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E73F0E-6C31-4A62-88E5-115ECF9517B6}"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732243-568B-4155-ABAC-01B745EA8FAD}"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99AB56-DFED-4FD2-9CE5-2DB1EAA07226}"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94F466-A28A-4DCC-BA1A-10F62048BB2D}"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510898-3F20-4A5A-A491-84A6444A41DF}"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A213B3-94A5-4021-B22D-6F843566C951}"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0050C1-7C4A-4ED7-92C2-9A653623E0EC}"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1068F3-D661-4FE4-88A3-4DEC2349E024}"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186E57-FD54-4D81-A428-BBC39D5140EF}"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244961-CF47-4A6C-AB80-886A60517FCC}"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51624F-6069-4F8F-801F-1A029976442C}"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DF7220-94F2-4832-BD64-698701D8E74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0F5226-E341-49F5-B3F7-602BF39CACB5}"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A4EECB-5A24-49C3-AE9E-F494ADCFFC65}"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5024B2-1CB1-4FD8-A502-798057D9A029}"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EAA1BD-5D5E-49C4-B594-728CF7D24AB2}"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145AD7-BA67-4E22-95A1-1AEBDA03600C}"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A3F112-F4BE-4323-B891-CC29FAB47024}"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5BFB56-69CD-41CC-9441-985CE7EC6803}"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765B3E-55C1-4C59-ABA9-DA98A68AA958}"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780473-0AEB-423F-B5B9-465EE7AFA821}"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0038A3-8A0F-451B-8DDD-745CEB256355}"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8CE8C7-4512-4A0A-B1FE-BCFC7B4A4A9F}"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276C25-4C9D-4C62-9BD6-BC0479E3A254}"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10E7C7-CD4E-4B22-8F4E-C0B78CC9647B}"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ADDB60-FE79-45AB-94B6-EF059970DBFF}"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585433-B807-4466-99E8-FCDE41A4C09E}"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0CF91BC-E8B3-4973-B2A7-02F6977F896C}"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B7D3F8-D76F-47EE-8104-E1E28F30F06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D9311F-B1FB-4786-A927-B83277D28D1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8185E1-AC87-4409-9C7A-6A657BB34F4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25D482-AF14-4CD6-B4A4-63B2F79A614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328CF1-F3F1-429C-84BC-45D631F771E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66EBB7-799C-4070-9F31-6D4506A6A7D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5A69975-81FA-4654-96F2-778D201D6FA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CB93FE-27EE-4EEB-BB4C-8178DA58963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16BDC1-1FC1-4983-AC41-67F2C2A4685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C6E4B9-2659-41E3-8131-B5634A47348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7C1CE1-65E0-414D-BEFB-8DE039DEB4C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CB7680-052F-440A-9C9D-EBB9AF9D004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259FE0-E6FB-401A-91B0-F023F2448CC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9F2097-31F7-4894-ACF2-C7E5301024B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B9C06A-333E-400B-ABE7-DA759B81199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E42FE1-2E34-4006-8D10-7FFF2AB8ADD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E78312-1DCE-4CF0-9FB5-092DE8312C1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4D05A4-745C-4188-827C-ADDD288ED94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4CEE9E-5E8E-45CD-AEE9-8C2DD870911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353350-3943-4420-9042-DFB9D008DEC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9AB738-7A99-4235-B8BE-531D426A30B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7F0B04-C9F0-4158-BC5B-DC8E275C756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3A765F-7E79-4C32-AD61-EF8CDED225D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711EA3-5751-4937-A0AC-103AD27C41B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18979F-EDCB-4FE5-985F-6F7AB366C6D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F08803-E5F7-4AE3-B510-9559BDE6E85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42224F-35F3-48EE-9831-C693B17F03D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AD2D32-695F-4213-B5D2-A66FF8482E0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A0CBBA-4FF5-45EB-9AEA-3B0DF11DE4C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2262D7-FB4A-478B-ABAB-258BF5188FB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BBE70C-5BC0-4548-8FB9-B7F31A2BEC6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1EF89E-FDDD-4554-8A2C-A5D531059C0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36C37A-48DE-4E48-A518-746C46A491F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AEB8C7-3162-4205-9F2D-4C3F51061A0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359DBA-0727-4026-9E9E-DB860D42B04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E0D37F-1A2B-493C-8582-3830751CCD6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C1EE3F-D4DE-4174-BAB5-1F7A70DFB74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42B4E4-DC64-43A2-8B12-527B872E6D1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D3CF7B-547B-49E6-9562-98D812E8655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19FC85-EF39-428E-B271-8DA6940BC54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FAA8B7-E712-4865-B263-2BBD3D1B24A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934C33-54B9-4A14-B83B-B1D1F9980F38}"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80A68B-7A13-4115-BD7D-16E931CA213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20927B-41E8-4E68-A8AC-4B1DBEDF58B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32C349-1077-4866-98AB-91FBE43AF5D3}"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591053-0176-4567-A87A-925036A2CA6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989B7D-5794-4B76-95FB-05590BE8F9E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B9053CA-A726-4AC2-BC67-65FE65AA68D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407668-9DDF-4A1B-B161-C221D124E5D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990899-3E0D-40D7-8095-8871E0139233}"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46D738-AD4E-45D2-BFA2-9409E9AD75C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C22C60-36E7-4F59-92AC-84A7D98A38A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3AB5AC-0BCB-4E7A-B1AF-D488F060CD74}"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1202FC-CA90-4E35-B54C-4E372F3E20D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7CFA75-67E2-4E32-B9B8-40E17EB87273}"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AC32D3-BACE-4BE8-AD37-005F362FA7E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94B15C9-F820-4701-AF20-E102DD29BEC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2F8CC9-C41E-48FA-87D2-76BD748ECE4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B98474-9848-4B65-9F8E-34A24B7D8DB0}"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103F30-E19F-4375-9512-362ED713A07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1911A7-D586-451B-AFE4-112FD317342D}"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C5C745-2375-42A1-8AD7-9CEE17C2CCAF}"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A6597F-7294-44AE-BD37-6813F1495B1D}"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F30A52-4047-46EE-88F2-88A297FD735E}"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DFECC3-63A2-4D9B-8FA8-5D6960BFFAC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1B0581-B55F-4FB5-9BF0-CB01ECDEEEC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B9C8EA-58D5-4684-9B6F-2FE2C01D6E82}"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1ADB53-EBCF-44E8-AFDB-ABD9CD34EE79}"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376FCB-60CD-427E-8EB7-3251ACE4F53C}"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52D148-B8CC-4958-8F69-5B7593AFD06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AB46A7-997B-4FFB-A9D5-067117D2A7F5}"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7473C73-D0C4-4096-8727-6BE4FCB4C124}"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1CEBD2-082C-4A9B-82D2-3316CED2B577}"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AE1B56-3678-41FD-9CE6-7E449EB1FECE}"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505944-EED3-4830-B78C-2D0B807C6837}"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210E65-BF2E-41DB-81AF-B5524EDB3994}"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1535D3-B517-4EBF-8F8D-CA72C73F5B54}"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17D0B0-34C4-4E56-A746-30D3C8E5B02B}"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4DFDC5-6F92-4647-943F-D001564A5FD5}"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834CA7-8C51-4593-B79B-B60772066BBC}"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25729E-8B2C-4C11-8B9F-96A99E657D18}"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8F27C8-A3AC-4820-8A57-16E7DC5D0AA0}"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9C30B5-A5A7-4315-BC85-6FEDE00C0D32}"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EC11E2-78B4-4BE2-9E8B-4244EB49C8A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0DFEE2-A53D-4B32-A425-FE16D3055077}"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